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4DA-D0C0-490A-96B3-95C664B9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05A-E56E-4868-8B3C-7D41B63E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C27-4ACF-4646-897F-88D688F6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D3E-33DC-4773-A05C-7E249556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E742E-B28F-4F40-8E0E-E2823B5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5580-6B8D-4E2C-B19D-607DF56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201D2-D853-40F2-807F-CD43AE9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A3BD0-2ABE-418D-B287-0D9B250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5EDD-D82A-42E4-B6E7-B34A8550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B84BD-EC8E-440B-8B7B-8DF32EF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6DB6-22DA-4142-93A8-7B32151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E75-D751-48BB-848C-817AB07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2F0E-9FDF-4EE2-BB1F-F25FC5E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7404-762F-4A3E-99CD-242459D7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559B4-C0D9-4F7C-9071-4AD62E9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8B269-ECEB-48FE-AADB-BC5A6EF3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1D27-C8B7-4734-80BB-1270F35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571-52C2-4DC0-9A1A-DED0733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064-77FA-4147-865C-B80DF0E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4BB-AA88-44BF-A240-3952F8F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D27-DC10-47EF-B1A1-56E5568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DA4-35AA-4F39-9906-499C91D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92D-2246-47DF-BBD3-1F9F87E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1B7-8F7A-4949-A105-72ECE99B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BA2A-FE95-44D8-A1C9-8A6F3529E0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1129-5C86-49EF-A624-30E90497F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X6CnNc3CFU" TargetMode="External"/><Relationship Id="rId2" Type="http://schemas.openxmlformats.org/officeDocument/2006/relationships/hyperlink" Target="http://www.youtube.com/watch?v=vX6CnNc3CFU" TargetMode="External"/><Relationship Id="rId3" Type="http://schemas.openxmlformats.org/officeDocument/2006/relationships/hyperlink" Target="http://www.youtube.com/watch?v=vX6CnNc3CFU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By: Marie Bellamy, Theresa Austin, Lauren Umetsu, Eddie Ki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95280"/>
            <a:ext cx="7772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Hydrogen Fuel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6688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 is Very S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6858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drogen can be stored for long periods of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4197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re is a hydrogen leak, it can be replaced with no harm done to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2"/>
              </a:rPr>
              <a:t>www.youtube.com/watch?v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3"/>
              </a:rPr>
              <a:t>=vX6CnNc3CF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92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 Black"/>
              </a:rPr>
              <a:t>AMAZING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 Black"/>
              </a:rPr>
              <a:t>IT WILL BLOW YOUR MIND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Thermal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Natural Gas Refo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Steam Methane Reforming- popular method for producing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Efforts are focused on natural gas reforming for transition period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Biomass Gas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Renewable sources such as agricultural crop residues, animal waste, and forest residues are used to produc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Thermal Process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 Bold"/>
              </a:rPr>
              <a:t>Coal Ga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Coal convert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gasses by app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heat 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Coal is an abund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and cheap re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7672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257800" y="4419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halkboard Bold"/>
              </a:rPr>
              <a:t>FutureGen, prototype plant supported by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ectrolytic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drogen is harvested via fuel cells.  There are a few different types, the most apparent being the PEM (Proton Exchange Membrane/ Polymer Electrolyte membra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other option is the Direct Methanol Fuel Cell – it has some cons, howeve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How It’s Us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ydrogen has many uses – however, there are two distinct 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uel cells can be used in cars and many other applications such as hom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therwise, a internal combustion engine can be fed in the same way that it is powered by petrole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The Cons of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Hydrogen Fuel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!!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69453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dget"/>
              </a:rPr>
              <a:t>Hydrogen Fuel –</a:t>
            </a:r>
            <a:r>
              <a:rPr b="0" lang="en-US" sz="4800" spc="-1" strike="noStrike">
                <a:solidFill>
                  <a:srgbClr val="ff0000"/>
                </a:solidFill>
                <a:latin typeface="Gadget"/>
              </a:rPr>
              <a:t> The Dark S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Cannot be harvested 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Too dependent on fossil fu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Cost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Feedstock (coal) can cause pol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Technology to produce Hydrogen will take too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5335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9680" y="16765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3505320"/>
            <a:ext cx="5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4648320"/>
            <a:ext cx="6781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32600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457200"/>
            <a:ext cx="797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 is 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he environmen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drogen is extremely clean fue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ly byproducts are heat and water when used in a fuel cel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colorless, odorless, and non-polluting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e water vapor comes out of exhaust instead of carbon monoxid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ombusted directly or with hydrocarbon fuels, very few emissions are produce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7:05:54Z</dcterms:created>
  <dc:creator>Marie Bellamy</dc:creator>
  <dc:description/>
  <dc:language>en-US</dc:language>
  <cp:lastModifiedBy>Punahou School</cp:lastModifiedBy>
  <dcterms:modified xsi:type="dcterms:W3CDTF">2007-04-03T23:30:01Z</dcterms:modified>
  <cp:revision>14</cp:revision>
  <dc:subject/>
  <dc:title>Hydorgen Fuel – The Dark Side</dc:title>
</cp:coreProperties>
</file>